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4C7-D4F5-46DD-8759-E5D2FBE4E99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A6B4-90F3-48EB-834A-4C39215B25F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03E-7BC9-448F-A980-4C1D70795F2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gdc.gov/metadata" TargetMode="External"/><Relationship Id="rId2" Type="http://schemas.openxmlformats.org/officeDocument/2006/relationships/hyperlink" Target="http://gcmd.nasa.gov/" TargetMode="External"/><Relationship Id="rId3" Type="http://schemas.openxmlformats.org/officeDocument/2006/relationships/hyperlink" Target="http://www.gsdi.org/pubs/cookbook/chapter03a.html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Creating Documentation and Metadata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Metadata for Discovery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ola Olse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yler Stevens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Wyle Information Systems (NASA Contractor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a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5" name="Content Placeholder 4" descr=""/>
          <p:cNvPicPr/>
          <p:nvPr/>
        </p:nvPicPr>
        <p:blipFill>
          <a:blip r:embed="rId1"/>
          <a:stretch/>
        </p:blipFill>
        <p:spPr>
          <a:xfrm>
            <a:off x="420840" y="2316240"/>
            <a:ext cx="121428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8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9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makes it easier to find relevant data in data inventory system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ing able to find and distinguish data from other similar data sets makes maintaining a data inventory easier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and maintaining metadata is part of a data management lifecyc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fgdc.gov/metadata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gcmd.nasa.gov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gsdi.org/pubs/cookbook/chapter03a.html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ng documentation and 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ublishing Metadata to GCM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tstevens</cp:lastModifiedBy>
  <dcterms:modified xsi:type="dcterms:W3CDTF">2011-10-12T12:54:34Z</dcterms:modified>
  <cp:revision>75</cp:revision>
  <dc:subject/>
  <dc:title>ESIP Federation 101</dc:title>
</cp:coreProperties>
</file>